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472-54CC-4D07-9F29-76BADEDE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3C8-0D2E-4B5B-8930-6B0EC30E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23B-A5E4-4902-9479-D03BC9D7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2C5-7089-473A-BD74-DF242593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251C-EFC5-4E41-A596-F8055232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1FB-780F-44CD-B5FB-79CD83E7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D634-5594-4243-92D1-A1215A2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21CB-195E-417C-B735-2709DECD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27B7-AF29-431C-BB8E-829E9C78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62D4-2BCF-43EC-8C88-E412393B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9F78-2FC0-4279-9EEB-5BF8980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C3D-D471-43A6-89E8-23480A0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D047-5C6B-4563-B95B-7FA54DB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5A24-8F5A-452B-9641-33B50822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123E-C3A9-4DE5-837A-9D987B51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3CC3-8191-465C-B17E-0A3DC5D2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D964-4BE3-4519-8345-A17D38BC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211C6-2B5D-4E74-8315-C80533E3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7F63-E038-453F-8E0C-28C9C786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100D-468E-4A89-AACB-7A0142EE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7669-D6AC-4E93-808D-565A8FD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A990-5A83-472D-A604-D140FF3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80B-B17E-4905-A4FC-C40A1487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B378-0E47-4EBF-91A7-CBAE24E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0B26-ADCE-4675-861C-0AAC452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7CE6-C1F6-496F-AD72-768885A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3217-9718-46B6-BAC8-08D1A5E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FD69-79B4-4513-A45E-4B82735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88C5-FBC5-4529-A252-0F42DD0F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F9AD-484E-4D23-99A9-5D29F8BC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CD02-7CE4-40C3-AAB7-190B0F0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EFC2D-10FC-44DF-AF74-7FE940FE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75C6-DC86-4396-9497-9CF920A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E76-2625-4524-9D6E-7D78ACE6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7BC8-32CD-4A76-B2E9-9E2B15B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1D6D-73D4-4EB2-BD1D-C86EFDA5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4C8E-C865-4574-A554-A94857EA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094B-68ED-4C34-910C-F687AA7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531D1-397E-4A06-ADCE-22E9160A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59F7-E0C4-46B6-A7CF-E15E0D2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A29D-F787-4C6C-973B-554D18B1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3971-4D4E-4BBA-8250-FAEDE9E6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9142-093A-486D-896C-F9FE785D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6C3EF-6CEB-46AB-BA8F-45A6C2E7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036-EB2E-4165-BEA5-562C407E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F336B-B4F0-47CB-B45E-71741A1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3C75A-3281-46F6-B939-760DFB15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C5905-733A-4292-877C-305090FE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F52FB-CBF8-4AB9-822A-A099454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EA8B9-A5AD-4D35-8F98-CC70ECF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2421B-8462-4457-9E8F-796417B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85C42-A34E-4B60-BB0E-785DD51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4A60D-516F-4AB8-8F91-FCAC3A5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F5297-025B-4262-822A-3E8B7BF7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0BFC9-28CF-478F-8A74-C012166F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8D6-0CBC-4534-9721-B3554ACD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20E83-32DA-4570-ACAB-99EDAE87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904B-50D8-4154-8AFD-3A69ED29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0F015-945D-4B6E-9A7C-6540810E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F4FF-7C2F-4F50-8278-4964DA6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A8FF-BEF7-4B9E-A0CD-FD79D6A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CFCF-DDE1-4F2A-9AB4-64FA035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F094-0DA2-412B-BBBD-D816D2F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DC01-243F-4B1E-8545-D27FA00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E59AC-4577-4BE3-80E0-9101AB6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970FA-C15C-44A7-91D4-BDECD78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D36-37A1-4E41-AAF6-7B9CD99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16FE-9149-4258-B410-7821F62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1EB11-659A-4D84-A94F-76D1B98D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CFB7-D7A4-4738-B230-49CFE0B8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4E6-1303-400F-8752-D65D57B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B1-AED1-4796-952A-7230F4A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4393-CB4B-4853-9739-9657FA04C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3BD-1926-4EBE-9A62-D5CC8C89725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5C3A-F2A7-4DDF-88FE-FD425B89C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CFD-8AE5-43F9-8095-19FCC3C0ADE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285-7ECB-4121-9189-C88B4934D36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2C7-B149-4867-B500-12F59D387F6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Адренэргические средст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440" y="837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бщемедицинской и ветеринарной практике применяют вещества действующие на рецеп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а, возбуждающие рецепторы – называют мимет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а, блокирующие рецепторы – называют блокаторами, или лити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дренэргические сред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андренэргическим средствам относятся препараты, чьи фармакологические эффекты обусловлены стимуляцией или блокадой рецепторов адреналина и норадренали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цепторы норадреналина локализуются в центральной нервной системе на внутренних органах, регулирующихся симпатической нервной систем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личают следующие разновидности адрено-рецепторов: α1 и α2 (альфа-1 и альфа-2), β1 и β2 (бета-1 и бета-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52280" y="3808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бщемедицинской и ветеринарной практи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меняются следующие лекарственные средства, влияющие на адренорецепто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мешанные α – и β- адреномиметики: адреналин, норадреналин, дофам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1 - адреномиметики: мезатонин, нафтизин, галазол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2 - адреномиметики: клофел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1- адреномиметики: добумат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2- адреномиметики: изадрин, сальбуматол, орципреналин, беротек и т.д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1- адреноблокаторы: дигидроэрготамин, дигидроэрготоксин, дигидроэргокристин, фентолам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1- адреноблокаторы: пропраноло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метапролол, 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атенол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шанные α- и β- адреномим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этой группе принадлежат три основных препарата: адреналин, норадреналин, дофамин, добуматин. Адреналин в одинаковой степени стимулирует все подтипы адренорецепторов. Для норадреналина характерна преимущественная стимуляц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дренорецеп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то гормон мозгового слоя надпочечников, по химической структуре представляющий собой кахетоламин. В общемедицинской и ветеринарной практике в настоящее время используется синтетический адреналина гидрохлори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о механизму действия адреналин является смешанным адреномимет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яц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дренорецепторов опосредует такие его фармакологические эффекты, к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зкое повышение артериального давления (даже нормального и повышенного АД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меренное расширение зрачка и повышение внутриглазного давления при инстилляции в глаз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за счет сужения сосудов кожи – уменьшение оте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противоаллергическое действие и остановка капиллярного кровотечения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чет стимуляци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дренорецепторов проявляются такие эффекты,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ронходилятац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всех показателей работы сердца (тахикардия, повышение возбудимости, проводимости и сократимости миокард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   повышение потребности миокарда в кислород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кращение селезен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нижение секреции бронхиальных и пищеварительных желез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кращение сфинктеров желудочно-кишечного трак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ще уменьшение перистальтики кише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яние адреналина на мускулатуру матки. Гладкая мускулатура матки содержит как альфа-, так и бета-адренорецепторы, количество и локализация которых могут изменяться в зависимости от состояния матки (беременной или небеременной) и от биологического вида животных. Так, например, в первом и втором триместрах беременности  преобладают бета-адренорецепторы, вследствие чего у большинства животных в эти сроки наблюдается расслабление матки, однако в последнем триместре преобладают альфа- адренорецепторы, поэтому внутреннее введение адреналина в конце беременности у большинства животных стимулирует родовую деятельность. Однако у коров отмечается угнетение сократительной активности беременной матки. У свиней также первоначально может отмечаться угнетение сократительной активности, но при продолжении инфузии наблюдается отчетливая стимуляция этого эфф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беременных сук, свиней и крольчих после внутривенного введения адреналина часто происходят аборты; у кобыл абортов не отмече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дреналин стимулирует  бета-адренорецепторы поджелудочной железы и жировой ткани. Вследствие этого наблюдается усиление синтеза и выброса глюкагона (антагонист инсулина) и повышение уровня сахара в крови. Одновременно адреналин усиливает распад гликогена в печени и скелетной мускулатуре и усиливает выброс эндогенной глюкозы в кровь, что также способствует развитию гипергликем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реналин также улучшает микроциркуляцию в скелетной мускулатуре. Одновременно мембраны миоцитов становятся более тропными к циркулирующей глюкозе, в результате чего резко возрастает работоспособность скелетной мускулату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52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 усиливает липолиз и препятствует липонеогенезу, вследствие этого наблюдается быстрое утончение жировой прослой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быстром внутривенном введении адреналина может наблюдаться расслабление сфинктера мочевого пузыря и мочеиспуск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догенный (не введенный извне) адреналин оказывает стимулирующее влияние на центральную нервную систему обезболивающее действ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Адренали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идрохлорид не преодолевает биологические барьеры, в организме быстро гидролизуется моноаминококсидазой, вследствие этого оказывает кратковременное действие (5-10 мину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реналин препятствует всасыванию всех других препаратов при совместном введении из-за способности к сужению прекапилляров. Указанное свойство адреналина с успехом используется при местной анестезии: комплексные рецептуры менее токсичны, действуют эффективнее и длительнее, так как местные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тики при этом практически не всасываются в организм и локализуются в основном в месте их действия, однако следует отметить, что передозировка адреналина может привести к некрозу тка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0492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9320" y="1523880"/>
          <a:ext cx="644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44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 txBox="1"/>
          <p:nvPr/>
        </p:nvSpPr>
        <p:spPr>
          <a:xfrm>
            <a:off x="762120" y="1600200"/>
            <a:ext cx="76197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накомиться с действи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ренал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Доз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а гидрохлорид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0,1%, Список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/в  коровам – 1-3 мл, овцам -0,2-1 мл, лошадям -1-3 мл, собакам 0,1-0,5 м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/к мл/гол лошадям и коровам – 4, свиньям, овцам -0,6, мелким жив-м -0,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мбинации с местными анастетиками для уменьшения их всасывания и потенцирования действ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но – в качестве кровоостанавливающего на кожу, мочевой пузырь, рот, в желудок, матку (за исключением легких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строй сердечной и сосудистой недостаточности внутривенно и внутрисердечно (в том числе и при остановке сердца во время наркотизации),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аллергическом шоке и подкожно – при бронхоспа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радренал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сновной эндогенный стимулятор α- адренорецеп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  не влияет на β2 – адренорецепторы и значительно ме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ем адреналин стимулирует β1 – адренорецепт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ведение норадреналина приводит к следующим фармакологическим эффект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строму и резкому повышению артериального д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флекторной тахикард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ужению сосудов скелетной мускулатуры (не повышает физическую работоспособн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сслаблению кишечника и мочевого пузыр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имуляции матки во второй половине берем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адреналин практически не влияет на проницаемость капилляров, не повышает потребность миокарда в кислороде, не стимулирует миокард, не влияет на центральную нервную систему, не расширяет бронхи и мало влияет на уровень глюкозы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реодолевает биологические барьеры, быстро расщепляется моноаминооксидазой, препятствует всасыванию других лекарственных средств при совместном вве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стно – для остановки кровотечения, внутривенно – при шоке, коллапсе, анафилактическом шо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фамин (допамин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о фармакологическим эффектам сходен с норадреналином, но несколько уступает последнему по активности. Рекомендован к внутривенному введению при сосудистом шо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α1- адреномиме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группа препаратов включает в себя мезатон, нафтизин и галазо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зат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нтетический препарат. В физико-химическом отношении представляет собой белый кристаллический порошок, хорошо растворимый в в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фармакологический эфф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кое и длительное сужение сосудов и значительное повышение артериально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меренно всасывается из желудочно-кишечного тракта, выводится из организма в измененном виде в течение первых суток. Препятствует всасыванию местных ан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иков и других лекарственных средств, вводимых с ним в одной рецеп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Местно – в форме 0,2% растворов для остановки кровотечений, совместно с местными ан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иками для потенцирования их действия и внутривенно – при сосудистом коллапсе, шоковых состоя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фтизин и галазол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чительно превосходят мезатон по сосудосуживающей активности, поэтому параэнтерально не вводятся. Эти препараты используются лишь местно для остановки кровотечений с кожи и слизистых и уменьшения экссудации при мокнущих воспалени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53316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адреномим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миметикам относится препарат клофелин (клонидин, гемито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о стимулирует пресинаптическ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рецепторы и препятствует синтезу и выбросу адреналина и норадреналина в межсинаптическую щель, препятствует стимуляци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синаптических адренорецепт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ым фармакологическим эффек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офелина является снижение артериального давления. Он также умеренно снижает все показатели работы сердца, снижает потребность миокарда в кисло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парат хорошо преодолевает гемато-энцефалический барьер. В центральной нервной системе повышает тонус высшего тормозного сосудодвигательного центра, что также способствует снижению артериального давления, оказывает выраженное анал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етическое дей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офелин  потенцирует анал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тический эффект наркотических анал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тиков и местных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тиков, поэтому в общемедицинской практике часто используется в хирургии для обезболивания совместно с морфином или местными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т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парат улучшает почечное кровообращение, поэтому эффективен при гипертонии, вызванной воспалением п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 повторном применении клофелин вызывает толерантность и лекарственную зависимость у людей, поэтому в последнее время отнесен к списку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– адреномим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этой группе отнесен препара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утам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Являетмя кардиотоническим средств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избирательно действует на сердце, практически не повышая артериальное давление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ая область примен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страя сердечная недостаточность. Однако следует помнить, что препарат действует очень коротко – 2-5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нерв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головной и спиной мозг)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ферическая нерв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нервы и ганглии) проявляют неодинаковую чувствительность к фармакологическим веществам. Поэтому в отдельные группы выделяют вещества, которые воздействуют на ЦНС и вещества, влияющие на периферическую нервную сис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иферическая нервная система представле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рвами и гангл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иферической нервной системе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ферент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фферент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е части. Нервные волокна, которые проводят возбуждение от органов и тканей к ЦНС,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ферент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ли чувствительными. Нервные волокна, проводящие возбуждение от ЦНС к органам и тканям,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фферент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 соответствии с этим различают фармакологические вещества, действующие на афферентную часть периферической нервной системы, и вещества влияющие на эфферентную иннервацию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– адреномим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этой группе относятся такие препараты, как изадрин, сальбутамол, фен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ол, тербутали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действия этих препаратов лежит способность стимулиров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норецепторы. В результате этого для них характерны такие фармакологичсекие эффекты, к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слабление гладкой мускулатуры бронх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азм гладкой мускулатуры шейки матки и расслабление мускулатуры тела мат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ширение просвета сосудов органов грудной полости и печен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ренное снижение артериального давления (за исключением изадри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етеринарной практике могут быть использованы такие препараты, как изадрин, сальбутамол, тербутал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задрин.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смешанный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адреномиметик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задрин стимулирует все показатели работы сердца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овышает потребность миокарда в кислороде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пособствует повышению артериального давления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казывает бронхорасширяющее действие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сслабляет гладкую мускулатуру матк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при многократном приеме повышает уровень сахара в крови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Изадрин может быть использован у домашних животных (собак и кошек) для лечения бронхиальной астмы и для профилактики  преждевременных родов. Следует отметить, что изадрин противопоказан при гипертонии и тяжелой сердечной недостаточности, так как он резко повышает потребность миокарда в кислороде. Нежелательно его назначение и при тяжелых печеночных заболевания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льбутам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Является специфически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дреномиметиком. Выпускается в лекарственных формах для приема внутрь, для инъекции и для ингаляций. Для него не характерно кардиотоническое действие, более четко, чем у изадрина, выражен бронходилятирующий эффект, но возможно снижение артериального давления. Он также достаточно эффективно расслабляет мускулатуру тела беременной мат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епарат довольно хорошо всасывается с дыхательных путей и желудочно-кишечного тракта. При ингаляции всасывается в организм около 20% от введенной дозы, вследствие чего при первом введении возможно снижение артериального да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альбутамол может быть использован у домашних животных для лечения приступов бронхиальной астмы и для профилактики преждевременных родов. В последнем случае он назначается внутрь, в таблетках, по 1-2 мг, четыре раза в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α1-адреноблок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ту группу входят такие препараты, как дигидрированные алкалоиды спорыньи (дигидроэрготоксин, дигидроэрготамин, дигидроэргокристин) и синтетический препарат фентолами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е механизма действия этой группы лежит их способность блокировать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α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дренорецепторы внутренних органов. Поэтому для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α1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блокаторов характерны такие эффекты, ка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зкое и быстрое снижение артериального давления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флекторная тахикардия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кровенаполняемость периферических сосудов, покраснение склер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ентоламин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нтетический аналог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гидрированных алкалоидов спорыньи. Его используют внутривенно, медленно при резком повышении артериального давления и как антагонист адреналина при передозировке рецептур местных анестетиков, содержащих адренали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игидрированные  алкалоиды спорынь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Основным фармакологическим эффектом  является быстрое и эффектное снижение артериального давления. В низких дозах они также могут улучшить обмен веществ в головном мозгу и мозговое кровообращение без существенного изменения системного артериального давления. В ветеринарной практике эти препараты могут быть использованы для улучшения мозгового кровообращения после травм головного мозга и при воспалительных заболеваниях периферических сосу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  - адреноблок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82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 группа включает в себя такие препараты, как пропранолол, метапролол, атенолол и т.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армакологические эффекты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β 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дреноблокаторов основаны на их способности препятствовать взаимодействию норадреналина с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β  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дренорецептор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казанный механизм действия обусловливает такие эффекты, как снижение всех показателей работы сердца, снижение артериального д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ако, такой препарат, как пропранолол потенцирует бронхоспазм, поэтому не разрешен к применению при бронхиальной астм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ветеринарной практике рассматриваемые препараты могут быть использованы у домашних животных при гипертонии во время острых воспалительных заболеваний поч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560" y="68580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фферентн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центробежная) иннервация представле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вигательными нервными волокнам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иннервируют скелетные мышцы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егетативными нервам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иннервируют внутренние органы, кровеносные сосуды, железы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рвными волокн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вигательные нервные волокн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едставляют собой длинные отростки (аксоны) двигательных нервных клеток, расположенных в спинном и головном мозге. Возбуждение двигательных клеток в ЦНС по нервным волокнам передается к скелетным мышцам, и вызывают их сокра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вегетативной иннервации различают ее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мпатическую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арасимпатическую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е органы и железы иннервируются как симпатическими,  так и парасимпатически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5228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мпатические нервные волокн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берут начало от специальных клеток грудного и поясничного отделов спинного мозга. Покинув спинной мозг, эти волокна оканчиваются в симпатических ганглиях (симпатические ганглии расположены вне иннервируемых органах). В ганглиях окончания нервных волокон (их называют преганглионарными симпатическими) контактируют с нервными клетками (ганглионарные клетки). Аксоны ганглионарных клеток (постганглионарные симпатические волокна) выходят за пределы ганглиев и оканчиваются на клетках иннервируемых органов и тка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импатические нервные волок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рут начало от клеток стволовой части мозга и от клеток крестцовой части спинного мозга. Эти волокна (преганглионарные парасимпатические волокна) оканчиваются в парасимпатических ганглиях, которые в отличие от симпатических ганглиев расположены в толще иннервируемых органов. В парасимпатических ганглиях окончания преганглионарных волокон контактируют с ганглионарными нервными клетками. Аксоны ганглионарных клеток (постганглионарные парасимпатические волокна) оканчиваются на клетках иннервируемых орга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052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 всех синапсах эфферентной иннерв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буждение передается с помощью химических веществ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иатор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Медиаторы выделяются окончаниями нервных волокон и воздействуют на рецепторы клеток. Действие медиатора кратковременно. Следующее возбуждение нервных волокон вызывает выделение новых порции медиатора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ганглионар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патические волокна в качестве медиатора выделя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радрена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 помощью которого передается возбуждение с симпатических нервных волокон на клетки органов и тканей. Нервные волокна, выделяющие норадреналин,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ренергическ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остальных синапс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фферентной иннервации передатчиком возбуждения (медиатором)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цетилхол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 помощью ацетилхолина передается     возбуждение в вегетативных ганглиях ( как в симпатических так и в парасимпатических). Нервные волокна, выделяющие ацетилхолин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инергическ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 ацетилхолина очень кратковременно, т.к. он быстро разрушается специальным фермент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цетилхолинэстераз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02T05:10:46Z</dcterms:modified>
  <cp:revision>4</cp:revision>
  <dc:subject/>
  <dc:title>Адренэргические средства</dc:title>
</cp:coreProperties>
</file>